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610-7EB0-4716-A8F0-D62B2FF7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E19-2651-4702-A8FE-772DD068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7A1-A269-4F63-85A4-AD456D6E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E14-8908-4397-AB11-327DC536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080-E0CC-44EC-BE3E-BC25C8CB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E49-913A-4876-96DE-65B429B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D37-4DD4-4223-9E7E-A95B194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568-D89D-4B4D-A327-27A2964C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DD9-D4E7-487E-96A6-F08474F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4C7-476C-4A3B-8F46-E7A26E9F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2CE-9C82-423E-A342-2D62CEE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065-6C87-4760-B184-6C1892E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17A692-34EA-49E4-AC26-9474CC59387B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 models, continu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confusion matrix is not very confus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cars93.t3, Cars93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table(pred, Typ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red      Compact Large Midsize Small Sporty Va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ompact      15     0       0     1      2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arge         0     9       1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Midsize       0     2      19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mall         0     0       0    20      4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porty        1     0       2     0      8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l test comes from a train/test sample: exerci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634-B9E8-4492-A6FE-670E0C9ED8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son with multinomia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nnet) </a:t>
            </a: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 multinomial is a neural network mode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 &lt;- multinom(Type ~ Width + EngineSiz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ssengers + Origin, cars93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fm &lt;- predict(m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cars93, table(Type, pf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fm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Type      Compact Large Midsize Small Sporty Va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mpact      13     0       1     1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rge         0    11       0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idsize       0     1      21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mall         1     0       0    19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porty        1     0       0     2     1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9DE-9C79-4122-9BC1-DED067939C4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pecial case of one or two predicto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hoose two likely useful predictor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 &lt;- tree(Type ~ Width + EngineSiz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); text(cars.2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.2t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1 &lt;- prune.misclass(cars.2t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1); text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08D-2419-4574-9FBA-E688A4CEEA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392" r="0" b="11091"/>
          <a:stretch/>
        </p:blipFill>
        <p:spPr>
          <a:xfrm>
            <a:off x="287280" y="981000"/>
            <a:ext cx="856944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F7A-73FB-4E46-90BB-A5ACD4720A02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289-0294-418A-96C3-358C34ECC07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590" r="0" b="9125"/>
          <a:stretch/>
        </p:blipFill>
        <p:spPr>
          <a:xfrm>
            <a:off x="468360" y="816120"/>
            <a:ext cx="820728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9DE-7AA9-4831-94E7-2DB1F25B34B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n alternative displa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Arial Unicode MS"/>
              </a:rPr>
              <a:t>If there are only two variables, the tree may be given as a two-dimensional diagra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oints(Width, EngineSize, pch=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as.numeric(Type), cex = 0.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egend("topleft", levels(Type), pch = 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1:length(levels(Type)), 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683-7328-47FC-AC69-398768F3DD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854" r="0" b="0"/>
          <a:stretch/>
        </p:blipFill>
        <p:spPr>
          <a:xfrm>
            <a:off x="431640" y="836640"/>
            <a:ext cx="8280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026-D44B-449E-8D0A-F91247B9188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89600" y="26028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janka.t1 &lt;- tree(Hardness ~ Density, j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tition.tree(janka.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janka, points(Density, Hardness, col="red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421" r="0" b="0"/>
          <a:stretch/>
        </p:blipFill>
        <p:spPr>
          <a:xfrm>
            <a:off x="838080" y="1341360"/>
            <a:ext cx="746784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946-CA34-4B10-BD2B-D35E272D7E8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nary data 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credit card data provides a more realistic examp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previous exercise used this data with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sider now using the tree package instea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et.seed(32867700) </a:t>
            </a:r>
            <a:r>
              <a:rPr b="1" lang="en-AU" sz="2400" spc="-1" strike="noStrike">
                <a:solidFill>
                  <a:srgbClr val="008080"/>
                </a:solidFill>
                <a:latin typeface="Courier New"/>
              </a:rPr>
              <a:t># my home phone numb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ind &lt;- sample(nrow(CC), 8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rain &lt;- CC[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est &lt;- CC[-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tore(CCTrain, CCTes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E44-114C-4237-B7F7-6BE63D181B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lassification: more on c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 &lt;- subset(Cars93, select = -c(Manufactur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del, Rear.seat.room, Luggage.room, Make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nt(names(cars93), quote = FALS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] Price              Max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] MPG.city           MPG.highway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7]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9] Cylinders          EngineSize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1] Horsepower         RPM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3]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5] Fuel.tank.capacity Passengers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7] Length             Wheelbas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9]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1] Weight             Origin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FB8-5A5D-4045-986B-9944751B93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840" y="476280"/>
            <a:ext cx="704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t1 &lt;- tree(credit.card.owner ~ ., CC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misclas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tre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78640" cy="42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7EC-F597-4AB2-AD65-0950EF35FDF1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est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t2 &lt;- prune.misclass(CC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 &lt;- function(fit, data = CCTest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fit, data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 &lt;- formula(fit)[[2]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matrix &lt;- with(data, table(eval(Y), pred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ot &lt;- sum(Cmatrix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rr &lt;- tot - sum(diag(Cmatrix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100*err/to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1)  #  [1] 18.39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2)  #  [1] 18.2716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A68-96A1-4376-88D5-C7940F62C3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imple bagg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### simple bagging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gedTree &lt;- local(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sample &lt;- function(dat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ata[sample(nrow(data), rep = TRUE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unction (object, data = eval(object$call$dat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nBags = 200, ...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 &lt;- list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or (j in 1:nBag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[[j]] &lt;- update(object, data = bsample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ttr(bagsFull, "formula") &lt;- formula(objec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class(bagsFull) &lt;- "bagTree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092-6728-44AE-91CC-8F8CD03195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Methods and t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mula.bagTree &lt;- function(x, ...) attr(x, "formula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Tree &lt;- function(object, newdata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sapply(object, predict, newdata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 &lt;- sort(unique(val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Vote &lt;- apply(vals, 1, function(x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hich.max(table(factor(x, levels = svals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[mVote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bag &lt;- baggedTree(CC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2(CC.bag) </a:t>
            </a:r>
            <a:r>
              <a:rPr b="1" lang="en-AU" sz="1800" spc="-1" strike="noStrike">
                <a:solidFill>
                  <a:srgbClr val="008080"/>
                </a:solidFill>
                <a:latin typeface="Courier New"/>
              </a:rPr>
              <a:t># [1] 13.7037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C66-8E9D-4172-AC1F-9BE3D06360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ibrary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C.rf &lt;- randomForest(credit.card.owner ~ ., CC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estPred2(CC.rf)  </a:t>
            </a: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[1] 13.209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Random forests wins, but by a very slight marg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Bagged methods are (in this case) far superior to trees, pruned or otherw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Also better (again, in this case) than the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6A2-39F3-4169-A5D1-32E2CD5E7D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jec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want to build a tree classifier for the Type of car from the other variables (no good reason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omit variables that have missing values and factors with large numbers of lev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package for illustrative purpo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ll cycle i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uild an initial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eck size by cross-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une to something sensi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80E-5BB7-44F1-B7AE-D1E0301DE9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struction and cross-valid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1 &lt;- tree(Type ~ ., cars93, minsize =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11(width = 8, heigh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1); text(cars93.t1, cex = 0.7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tre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an alternative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35C-61A2-4D95-89CF-C1895786A9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0" y="83664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085-581A-49B4-BCD8-FCC7FC845BE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E87-A116-497D-92DE-6EC6F38EC66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 = prune.misclas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464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AC9-CC54-42D6-A462-D6938DDBBC1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an us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nip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to prune manuall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devianc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misclas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misclassification rat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2 &lt;- prune.misclass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2, type = "u"); text(cars93.t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3 &lt;- prune.tree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3, type = "u"); text(cars93.t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th methods lead to the same tree, her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068-D7F8-41C9-8C51-BEAE1EBC9F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324000" y="692280"/>
            <a:ext cx="84960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D8C-493A-46CB-AAF3-3059A723612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2:11Z</dcterms:modified>
  <cp:revision>15</cp:revision>
  <dc:subject/>
  <dc:title>S-PLUS, An Introduction to the System</dc:title>
</cp:coreProperties>
</file>